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E2D-FA1B-4893-AC7A-4A189A74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2C8-2485-4113-8C5D-543ECBD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E43-F7A3-4785-A109-D4F34B4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171-E5F4-4113-87A4-21166CDC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F56-ADAB-4F39-A8BC-6F71999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DC1-2FCB-47F0-BE25-E420AFF9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2EE-FD62-4C9F-A0CB-5A90DAE1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DE5-D5FB-4F7A-A559-EF1800B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C91-7931-404C-B66E-4AD7CE41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C99-3649-4615-BC1F-27D9C23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2EF-99D6-4743-8C9F-F3FAC17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DA1-0363-45E9-9011-F2215A7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B85-74EE-45E1-8E3C-BA469FDD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19:49:04Z</dcterms:modified>
  <cp:revision>1</cp:revision>
  <dc:subject/>
  <dc:title>Powerpoint </dc:title>
</cp:coreProperties>
</file>